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9.jpeg" ContentType="image/jpeg"/>
  <Override PartName="/ppt/media/image12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1CC7-BE6F-4D82-984C-EFFA9131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4964-08B9-482F-A617-4383C5BD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102-8B7A-4983-9637-DD656B9F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A18-13B8-4C7E-AA86-D3BF1314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949ED-6843-40CB-9E13-52831DAC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259CC-6F08-4738-812F-05D604BF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2F52A-7D91-4E2F-AEA1-444F6F90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86FE56-C610-42B6-AAD1-681411EE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3D6C7-2908-4201-8F1C-2ABB1ED8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CAAC6-6D49-4EC0-ABE5-20E7F7D4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E1382-0D19-4604-8E26-81E1A2D2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1C9-FC58-4AC2-AD22-17632981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362F5-285E-47BA-93C5-90994A5A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92AB3-9538-4BB5-B993-63A8B943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9F4A9-F011-4CD7-8DB5-8E386F51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DE4F0-F639-4A7B-A69F-2E3CD116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599DA-9272-4889-BE46-535675FE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B90-0F63-45C0-A910-A9F6FA9E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382-CE4B-4EE5-9EEC-BE78A29F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AC7-EC9C-4F20-B147-E2C564C6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F66-E2D3-4515-BC85-8DC23A36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C81-AE49-4D1C-B7A8-9EF63FB1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D63-034D-4E7C-8DC4-1FB0AF6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6E77-7E37-436F-861E-FC2F36E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E949-E5B7-409B-B004-5D44987F4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A78D-137C-4D49-9EA8-08F52F10E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http://upload.wikimedia.org/wikipedia/commons/8/86/Murray_river_%28Australia%29_map-fr.svg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google.com.au/imgres?imgurl=http://media-2.web.britannica.com/eb-media/99/9899-004-0DC64C91.jpg&amp;imgrefurl=http://www.britannica.com/EBchecked/topic-art/398303/13143/Murray-River-near-Tintalba-New-South-Wales&amp;h=300&amp;w=302&amp;sz=50&amp;tbnid=2Txq31bEzK4oiM::&amp;tbnh=115&amp;tbnw=116&amp;prev=/images%3Fq%3Dmurray%2Briver&amp;usg=__ceiYO3-rWK84DdCX2RWM0CpvTwk=&amp;ei=OWmvSYbrN5m0sQPz08mDAQ&amp;sa=X&amp;oi=image_result&amp;resnum=6&amp;ct=image&amp;cd=1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hyperlink" Target="http://www.murrayriver.com.au/houseboats/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urrayriver.com.au/water-cruises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murrayriver.com.au/houseboats/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murrayriver.com.au/about-the-murray/fun-things-for-kids/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murrayriver.com.au/paddleboats/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www.murrayriver.com.au/about-the-murray/murray-canoe-kayaking/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www.murrayriver.com.au/river-towns/explore-the-mallee/" TargetMode="External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image" Target="../media/image22.jpe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au/imgres?imgurl=http://www.rosalieforest.com/_pictures/3rivers_pond.jpg&amp;imgrefurl=http://www.rosalieforest.com/&amp;h=300&amp;w=400&amp;sz=90&amp;tbnid=_4A5sDgefCKDDM::&amp;tbnh=93&amp;tbnw=124&amp;prev=/images%3Fq%3Dpictures%2Bof%2Brivers&amp;usg=__biqGz4EEjg3EHK-YURtyOb1a9dE=&amp;ei=5EiuSaLtJ5nMsAPOu7CtDg&amp;sa=X&amp;oi=image_result&amp;resnum=1&amp;ct=image&amp;cd=1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google.com.au/imgres?imgurl=http://www.hickerphoto.com/data/media/170/rainforest_rivers_t0427.jpg&amp;imgrefurl=http://www.hickerphoto.com/rainforest-rivers-9181-tile.htm&amp;h=311&amp;w=468&amp;sz=53&amp;tbnid=LTDWNqdw9Y6o-M::&amp;tbnh=85&amp;tbnw=128&amp;prev=/images%3Fq%3Dpictures%2Bof%2Brivers&amp;usg=__ACA5zapWjArdE4tWCxmyjPt5Knw=&amp;ei=5EiuSaLtJ5nMsAPOu7CtDg&amp;sa=X&amp;oi=image_result&amp;resnum=2&amp;ct=image&amp;cd=1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oogle.com.au/imgres?imgurl=http://www.mvs.usace.army.mil/Rivers/images/Rivers.jpg&amp;imgrefurl=http://www.mvs.usace.army.mil/Rivers/&amp;h=431&amp;w=640&amp;sz=36&amp;tbnid=4DD7of8vs71WAM::&amp;tbnh=92&amp;tbnw=137&amp;prev=/images%3Fq%3Dpictures%2Bof%2Brivers&amp;usg=__s9jEOMitokTpOL9tFWE60WMhbh8=&amp;ei=5EiuSaLtJ5nMsAPOu7CtDg&amp;sa=X&amp;oi=image_result&amp;resnum=3&amp;ct=image&amp;cd=1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www.google.com.au/imgres?imgurl=http://growabrain.typepad.com/photos/south_island/rivers.jpg&amp;imgrefurl=http://growabrain.typepad.com/photos/south_island/rivers.html&amp;h=375&amp;w=500&amp;sz=74&amp;tbnid=47gH6NtqG8ol8M::&amp;tbnh=98&amp;tbnw=130&amp;prev=/images%3Fq%3Dpictures%2Bof%2Brivers&amp;usg=__CPf4w2kTfk_Nprle4apeDOd6-z8=&amp;ei=5EiuSaLtJ5nMsAPOu7CtDg&amp;sa=X&amp;oi=image_result&amp;resnum=4&amp;ct=image&amp;cd=1" TargetMode="External"/><Relationship Id="rId8" Type="http://schemas.openxmlformats.org/officeDocument/2006/relationships/image" Target="../media/image26.jpeg"/><Relationship Id="rId9" Type="http://schemas.openxmlformats.org/officeDocument/2006/relationships/hyperlink" Target="http://physicaplus.org.il/zope/home/en/1124811264/1141060775rivers_en/zope/sites/physicaplus/home/en/1124811264/1141060775rivers_en/zope/sites/physicaplus/home/en/1124811264/1141060775rivers_en/rivers2.jpg" TargetMode="External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 rot="5400000">
            <a:off x="247320" y="3105000"/>
            <a:ext cx="64008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Riv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715000" y="4267080"/>
            <a:ext cx="3200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 Anasta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00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57200" y="1905120"/>
            <a:ext cx="8228880" cy="4113360"/>
            <a:chOff x="457200" y="1905120"/>
            <a:chExt cx="8228880" cy="4113360"/>
          </a:xfrm>
        </p:grpSpPr>
        <p:cxnSp>
          <p:nvCxnSpPr>
            <p:cNvPr id="143" name="_s44044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5599800" y="252072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6" name="_s44043"/>
            <p:cNvCxnSpPr>
              <a:stCxn id="147" idx="0"/>
              <a:endCxn id="145" idx="2"/>
            </p:cNvCxnSpPr>
            <p:nvPr/>
          </p:nvCxnSpPr>
          <p:spPr>
            <a:xfrm flipV="1">
              <a:off x="4571280" y="3549600"/>
              <a:ext cx="3240" cy="823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44042"/>
            <p:cNvCxnSpPr>
              <a:stCxn id="149" idx="0"/>
              <a:endCxn id="145" idx="2"/>
            </p:cNvCxnSpPr>
            <p:nvPr/>
          </p:nvCxnSpPr>
          <p:spPr>
            <a:xfrm flipH="1" flipV="1" rot="5400000">
              <a:off x="2719800" y="2521080"/>
              <a:ext cx="823320" cy="2880720"/>
            </a:xfrm>
            <a:prstGeom prst="bentConnector3">
              <a:avLst>
                <a:gd name="adj1" fmla="val 1386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5" name="_s44038"/>
            <p:cNvSpPr/>
            <p:nvPr/>
          </p:nvSpPr>
          <p:spPr>
            <a:xfrm>
              <a:off x="3337200" y="190512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Sizes of rivers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44039"/>
            <p:cNvSpPr/>
            <p:nvPr/>
          </p:nvSpPr>
          <p:spPr>
            <a:xfrm>
              <a:off x="45720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small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_s44040"/>
            <p:cNvSpPr/>
            <p:nvPr/>
          </p:nvSpPr>
          <p:spPr>
            <a:xfrm>
              <a:off x="333720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mediu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44041"/>
            <p:cNvSpPr/>
            <p:nvPr/>
          </p:nvSpPr>
          <p:spPr>
            <a:xfrm>
              <a:off x="6217560" y="4373280"/>
              <a:ext cx="2468520" cy="1645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hu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304920" y="533520"/>
            <a:ext cx="9144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izes of river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66ff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267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28600" y="457200"/>
            <a:ext cx="8381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e water life cycl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8229600" cy="36687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219320" y="762120"/>
            <a:ext cx="6933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ver systems of the Worl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1192"/>
            </a:gs>
            <a:gs pos="50000">
              <a:srgbClr val="e193e3"/>
            </a:gs>
            <a:gs pos="100000">
              <a:srgbClr val="b5119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l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ga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ub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al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ieper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niester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ine ri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14400" y="304920"/>
            <a:ext cx="71629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amous river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-129528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2133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24280" y="313920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located in Russia, Europ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3 692km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the 16th larg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ver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the largest riv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urope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9960" y="2514600"/>
            <a:ext cx="3429000" cy="378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523880" y="457200"/>
            <a:ext cx="60962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Volga Riv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ffffff"/>
                </a:solidFill>
                <a:latin typeface="Tahoma"/>
              </a:rPr>
              <a:t>How long is the Nile River?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- The Nile River is </a:t>
            </a: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6695 kilometes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(4184 miles) long. The Nile River is believed to be the longest river in the worl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3880" y="304920"/>
            <a:ext cx="6172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Nile Riv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217188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See full size image"/>
          <p:cNvPicPr/>
          <p:nvPr/>
        </p:nvPicPr>
        <p:blipFill>
          <a:blip r:embed="rId3"/>
          <a:stretch/>
        </p:blipFill>
        <p:spPr>
          <a:xfrm>
            <a:off x="2666880" y="4038480"/>
            <a:ext cx="3276720" cy="2438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44a9ee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urray river is th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est in Austral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op photo is 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ture of how the Ri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to look.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rray is 2,575 KM lo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457200"/>
            <a:ext cx="6324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urray riv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File:Murray river (Australia) map-fr.sv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809880"/>
            <a:ext cx="2689200" cy="2570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http://www.britannica.com/EBchecked/topic-art/398303/13143/Murray-River-near-Tintalba-New-South-Wal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419112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248520" y="1828800"/>
            <a:ext cx="2438280" cy="1676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-1295280"/>
            <a:ext cx="45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705720" y="5257440"/>
            <a:ext cx="76176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077320" y="5867280"/>
            <a:ext cx="30456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6324480"/>
            <a:ext cx="22860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035a"/>
                </a:solidFill>
                <a:latin typeface="Tahoma"/>
              </a:rPr>
              <a:t>Murray 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9900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the Murray river you can stay the night on a house boa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also go fish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camp t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expl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canoe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take photos of t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autiful riv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have family fu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discover new th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8600"/>
            <a:ext cx="7867800" cy="14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ings to do at the Murray river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Murray River, The Murray - landscape sunrise/sunset river/creek"/>
          <p:cNvPicPr/>
          <p:nvPr/>
        </p:nvPicPr>
        <p:blipFill>
          <a:blip r:embed="rId3"/>
          <a:stretch/>
        </p:blipFill>
        <p:spPr>
          <a:xfrm>
            <a:off x="5562720" y="4910040"/>
            <a:ext cx="3276360" cy="167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Great Murray River Houseboat Adventure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2666880"/>
            <a:ext cx="2333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733920" y="3200400"/>
            <a:ext cx="2133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33cccc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River Cruis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8769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Great Murray River Houseboat Adven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09680" y="4876920"/>
            <a:ext cx="2514600" cy="1676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33520" y="0"/>
            <a:ext cx="8381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ictures of the Murray riv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3" name="" descr="Fun stuff for kid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055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Heritage Paddle steamer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2920" y="4876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Canoeing and Kayaking on the Murra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3200400"/>
            <a:ext cx="1981080" cy="1305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Explore the Malle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666880" y="3276720"/>
            <a:ext cx="1676520" cy="1218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Welcome to Country"/>
          <p:cNvPicPr/>
          <p:nvPr/>
        </p:nvPicPr>
        <p:blipFill>
          <a:blip r:embed="rId13"/>
          <a:stretch/>
        </p:blipFill>
        <p:spPr>
          <a:xfrm>
            <a:off x="4952880" y="3200400"/>
            <a:ext cx="135252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6705720" y="320040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3505320" y="1905120"/>
            <a:ext cx="1885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c3035a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362320" y="304920"/>
            <a:ext cx="46479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Pictures of river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3" name="" descr="http://www.rosalieforest.com/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2133720"/>
            <a:ext cx="1905120" cy="1676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http://www.hickerphoto.com/rainforest-rivers-9181-tile.ht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24080" y="21337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http://www.mvs.usace.army.mil/Rivers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10080" y="2133720"/>
            <a:ext cx="175284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http://growabrain.typepad.com/photos/south_island/rivers.htm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4495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See full size ima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276720" y="4572000"/>
            <a:ext cx="1352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62120" y="304920"/>
            <a:ext cx="73911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we can save river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2438280"/>
          <a:ext cx="8229600" cy="356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Not take so much wat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Buy water tan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 Try to reach how not use as much wat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ater once a we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don’t have to long showers and only use water when neede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7:23:57Z</dcterms:created>
  <dc:creator>Therese</dc:creator>
  <dc:description/>
  <dc:language>en-US</dc:language>
  <cp:lastModifiedBy>anastasia.hughes</cp:lastModifiedBy>
  <dcterms:modified xsi:type="dcterms:W3CDTF">2009-04-06T03:22:10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